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05431"/>
        <c:axId val="68212239"/>
      </c:barChart>
      <c:catAx>
        <c:axId val="309054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12239"/>
        <c:crosses val="autoZero"/>
        <c:auto val="1"/>
        <c:lblAlgn val="ctr"/>
        <c:lblOffset val="100"/>
        <c:noMultiLvlLbl val="0"/>
      </c:catAx>
      <c:valAx>
        <c:axId val="682122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054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68C5-C8B6-4388-8C3F-1DDCAF15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1D56-B8B9-450F-BC47-A6D22FA7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DD03-D588-4A8D-A43A-842D3C4E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2705-98C8-4EED-BCE1-00A51E7C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1C5-7E08-4063-BB03-B494C73B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CFB-04E5-4F15-ABB0-F7A762D7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7FF-51E2-4323-BC63-E836D987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774E-AE78-4405-8B50-FC2BFD8C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C46-21BE-4C02-B7AE-3C8A2654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D8E-CD20-4683-81C0-8C6EBF67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06F-0359-48B6-A852-A14E2C86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B78-112B-4FB0-8174-0578EA3B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C67B8-CD2B-4486-A5F5-EF3B796544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