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33263"/>
        <c:axId val="26180705"/>
      </c:barChart>
      <c:catAx>
        <c:axId val="35633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0705"/>
        <c:crosses val="autoZero"/>
        <c:auto val="1"/>
        <c:lblAlgn val="ctr"/>
        <c:lblOffset val="100"/>
        <c:noMultiLvlLbl val="0"/>
      </c:catAx>
      <c:valAx>
        <c:axId val="2618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3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44A-D3A4-413E-BDEE-EDB1355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D25-A42E-42BD-9132-C6537C45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70C-51D8-4680-99F4-AA780B7E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6AF-A166-45A5-B782-76E59F12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6FA-1982-4A73-B3B6-22A9F50A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17F-F26B-4931-AD31-3EEB04D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886-607C-406D-A049-A2E3907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6F0-D54A-4CDA-9D3F-CAB3929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8D5-8492-46C7-80F4-154A584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5A8-5C45-4D9F-8D2F-FAA17ED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EB0-0333-44EC-9053-146A12A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E74-2F4F-42E8-AF5C-534C291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8A53-FC3D-4C5C-985D-5797A9F3A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