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17205"/>
        <c:axId val="26322750"/>
      </c:barChart>
      <c:catAx>
        <c:axId val="60217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22750"/>
        <c:crosses val="autoZero"/>
        <c:auto val="1"/>
        <c:lblAlgn val="ctr"/>
        <c:lblOffset val="100"/>
        <c:noMultiLvlLbl val="0"/>
      </c:catAx>
      <c:valAx>
        <c:axId val="26322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17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DD3-7751-45AC-9A70-CA7EEFE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D40-CC49-4FFA-92D7-B726E6EF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6A0-2051-4481-A3A5-FA5A2E40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AB8-82DB-4CEF-B78B-6B15E8B9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BEA-C99C-4DDA-932C-9B10D528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C74-6BFD-4BD7-A730-3E1FBF9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FD7-6243-4EEC-BB9A-92B79C4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C69-FB7C-4E17-A638-86BBC8EA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54F-1EC6-4058-B320-B169F3A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426-F084-497E-8D0A-0CB77ED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B15-FC8A-4AEF-B310-CB36737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B02-F7A4-44EF-A515-27500EB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A716E-0364-489C-B8D0-AE15BAEC3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