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49159"/>
        <c:axId val="47621379"/>
      </c:barChart>
      <c:catAx>
        <c:axId val="13349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21379"/>
        <c:crosses val="autoZero"/>
        <c:auto val="1"/>
        <c:lblAlgn val="ctr"/>
        <c:lblOffset val="100"/>
        <c:noMultiLvlLbl val="0"/>
      </c:catAx>
      <c:valAx>
        <c:axId val="47621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49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ECC-CFA9-4894-A257-DA7B9C90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99A-A565-4F24-9F97-D6D6BB4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973-FEAB-45CB-83E5-4EE8D38B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156-02E8-4E2E-8367-827221E3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94B-62C5-4B96-9816-DE06ABF0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3FE-00CB-4629-9941-F72B0E7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201-D428-47C5-9375-733533EE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5D1-9B05-4E20-A006-4AF0C942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AF5-19D5-4939-82B5-ACAFA916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85C-1568-48F6-850F-30F563E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CEF-9936-4A5F-9C9D-0F57E0F0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6F5-DC5A-423B-92FF-5A320B2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CBEB8-D0F9-46B1-88B5-8255CE19CC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