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87778"/>
        <c:axId val="99231144"/>
      </c:barChart>
      <c:catAx>
        <c:axId val="33987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31144"/>
        <c:crosses val="autoZero"/>
        <c:auto val="1"/>
        <c:lblAlgn val="ctr"/>
        <c:lblOffset val="100"/>
        <c:noMultiLvlLbl val="0"/>
      </c:catAx>
      <c:valAx>
        <c:axId val="99231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87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CB7-46EE-48C5-8B0E-EA561634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CE5-2705-4D7D-9A86-93E1D59E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B50-7CD8-4D39-AE97-6693D27C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A5C-D114-4983-AAA4-875AAE17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7B0-CF6F-44AE-94CD-F693D27C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B22-B0E7-4CD9-BBE7-67FEB179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6F1-2FD2-4965-A4C7-286FB1CF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CC5-35D0-459A-8DD5-1D54C58B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ABD-3ADB-49C1-9716-324CE032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3C7-37EB-4CE7-9D33-4B8444A8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52A-6EEF-4869-AFFC-F4C55509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B72-1020-4CDD-A8F6-E310806B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F56ED-3EF9-4F08-A285-22361C5BF3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