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82043"/>
        <c:axId val="56333131"/>
      </c:barChart>
      <c:catAx>
        <c:axId val="45882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33131"/>
        <c:crosses val="autoZero"/>
        <c:auto val="1"/>
        <c:lblAlgn val="ctr"/>
        <c:lblOffset val="100"/>
        <c:noMultiLvlLbl val="0"/>
      </c:catAx>
      <c:valAx>
        <c:axId val="56333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82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A5A-A958-4B48-8DC4-04436E57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16D-6649-4D8D-8448-D0EADF04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804-5C75-4165-93D8-0F440F4F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D9E-C4C4-4949-B4AC-88C9089C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061-BA7C-4E55-B842-B6C64193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A19-C3B9-4E26-837B-FCFCEF2B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4F8-2223-433D-86D7-1ABFFF78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CAF-2BDF-497D-90F5-887FCF0E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412-ABF4-4F52-93D2-0D087CA2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96A7-2F64-4D9C-9E8A-6BB823D8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1A1-2515-45F8-9B82-BC2BAAA0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03F-2EC2-4FF2-AB43-4A95F0C4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C1416-F010-46EE-AB3A-DA2145B876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