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548508"/>
        <c:axId val="49097808"/>
      </c:barChart>
      <c:catAx>
        <c:axId val="254850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097808"/>
        <c:crosses val="autoZero"/>
        <c:auto val="1"/>
        <c:lblAlgn val="ctr"/>
        <c:lblOffset val="100"/>
        <c:noMultiLvlLbl val="0"/>
      </c:catAx>
      <c:valAx>
        <c:axId val="4909780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4850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5F25-A67D-4AC6-A727-4C8E41181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0205-9920-4611-87F8-422F1C1DD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0239-4039-456F-866A-A3CB369E7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DE69-A36C-40B3-A335-8107756F8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F738-2508-4DA3-98C9-F20768DEA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025F-8BAF-4F37-B375-1E9C39116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83F6-F209-4AC8-82F1-B2E9F4879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FAF8-DEB3-4B32-A312-A4B2A3863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869C-A4C1-4EAE-BAFC-5DB9BA735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3BDC-E365-45F5-B52A-138E34C5E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1A68-57F8-4C20-AEE2-FB75E11D2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66F0-6897-4A12-8933-C7E7BAEB0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37BC35-E7D3-43BA-AB45-A26913010D6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