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623646"/>
        <c:axId val="19935780"/>
      </c:barChart>
      <c:catAx>
        <c:axId val="976236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935780"/>
        <c:crosses val="autoZero"/>
        <c:auto val="1"/>
        <c:lblAlgn val="ctr"/>
        <c:lblOffset val="100"/>
        <c:noMultiLvlLbl val="0"/>
      </c:catAx>
      <c:valAx>
        <c:axId val="199357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236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3750-AFA3-49BF-AC83-A150FE018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7D2D-55C8-4A21-8F1A-18D12F50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7E89-EB7D-4AC9-A7E1-9D277FDC7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11FA-4B97-4D22-AD3E-5719F3179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6D33-0370-4D67-8E0C-D0562881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B71E-C8CA-4B7D-A559-4B9FA250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B598-0B73-47A0-8051-42993179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5AE0-C689-4E28-85E9-88006B0A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F6B1-E70A-4FD2-B756-8A29F8C0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7FE2-DBEB-4141-A82C-1C3B250F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6A14-8F09-416D-9C3C-8E2D1D3C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AE9C-AB6B-487A-A2A9-41C6C488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C5CBB-17A5-4B40-8B78-2C9E4DE36E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