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05200"/>
        <c:axId val="37585930"/>
      </c:barChart>
      <c:catAx>
        <c:axId val="23605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85930"/>
        <c:crosses val="autoZero"/>
        <c:auto val="1"/>
        <c:lblAlgn val="ctr"/>
        <c:lblOffset val="100"/>
        <c:noMultiLvlLbl val="0"/>
      </c:catAx>
      <c:valAx>
        <c:axId val="37585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05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B21-A46F-48C2-AFE1-A1AA7EC0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DE8-D8B6-4C27-A056-852126F8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289-5E96-4DA6-81C8-55A52A29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C04-C621-4E89-8DF8-F91E780A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93A-F639-4A84-A01F-3C3C27D1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EC8-D1D1-415A-93ED-000AD05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2EF-FC7D-4532-BBEC-E3203B52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E07-2692-42FF-99D5-DA13D19B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263-589C-4444-804C-A563A089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3E4-9C9C-476D-AB08-A17448CD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16C-7D69-4B9A-ACB9-B0751E2A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25C-16AD-4D57-AF49-D81501B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17EBC-D1DD-4EED-8797-D4E945B833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