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02541"/>
        <c:axId val="1609963"/>
      </c:barChart>
      <c:catAx>
        <c:axId val="70702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9963"/>
        <c:crosses val="autoZero"/>
        <c:auto val="1"/>
        <c:lblAlgn val="ctr"/>
        <c:lblOffset val="100"/>
        <c:noMultiLvlLbl val="0"/>
      </c:catAx>
      <c:valAx>
        <c:axId val="160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02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451-D180-4B11-A88D-C1259F17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2B1-965E-4B18-8822-956680A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7AE-4D7B-4D2B-88DF-C53F415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D22-2237-4C0C-AFC5-639581E7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D22-EE71-43DD-947B-507E0D78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E3A-203B-4424-A2C8-FA675F2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47E-DB20-41A4-A07E-FEA7966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3D7-3787-457F-AD00-D5BA6C0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2B4-710D-4A87-BD7B-6EC7581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2B2-F7B4-41D5-A790-04A64A5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BB5-2A76-42D6-898A-07C4A1F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330-47D2-4107-BC63-9D5BA56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D1D82-FD30-48D4-B5BA-D4EFA0CE1E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