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01699"/>
        <c:axId val="20854785"/>
      </c:barChart>
      <c:catAx>
        <c:axId val="93501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54785"/>
        <c:crosses val="autoZero"/>
        <c:auto val="1"/>
        <c:lblAlgn val="ctr"/>
        <c:lblOffset val="100"/>
        <c:noMultiLvlLbl val="0"/>
      </c:catAx>
      <c:valAx>
        <c:axId val="20854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01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C71-70BA-4188-9D96-F475552E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9BB-556F-48AF-9AE3-F474DC6F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706-77A3-45F4-8388-CD0F6144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BF2-DA37-41EA-A8D8-EE925819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905-648E-43A8-ABB9-830CABB8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D30-D4CE-4393-AA3A-A75B755C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348-8DF5-4B41-8C35-E1891B70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9A6-9F82-427A-BFD0-2A161FC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790-BA0A-46C3-B0F4-F54A11BA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267-990A-4443-AACD-590A3902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CE6-13B4-463F-A978-6982D9EA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65F-950E-4B5F-BD4A-8FB4274F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D312C-B139-4D43-AEDB-68EB75E858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