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72486"/>
        <c:axId val="24158249"/>
      </c:barChart>
      <c:catAx>
        <c:axId val="31972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58249"/>
        <c:crosses val="autoZero"/>
        <c:auto val="1"/>
        <c:lblAlgn val="ctr"/>
        <c:lblOffset val="100"/>
        <c:noMultiLvlLbl val="0"/>
      </c:catAx>
      <c:valAx>
        <c:axId val="24158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2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4FF-81BF-49AD-8A1C-06A54B8C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A29-5C83-4CBF-A296-44F77BA6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8B9-8596-47BE-88B4-9D87D1BE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A7A-DC38-4416-AC64-9D820D7A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A7E-A66B-4178-84FF-CA63C15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0EA-56EB-4C86-B0A9-F6FC30C6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6B4-AAF6-49A0-A032-7797B37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C54-E45B-4733-8166-E177A96D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E6D-3638-4A28-9192-BF61BD10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BAE-67ED-422F-A8CC-22DFC62E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A2C-8946-4F9C-BCAB-DDB1A24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584-1CAD-41F4-9E5E-773351DF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7C58-BCF9-44DD-A2CC-EE424B9D8D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