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28253"/>
        <c:axId val="69827388"/>
      </c:barChart>
      <c:catAx>
        <c:axId val="82128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27388"/>
        <c:crosses val="autoZero"/>
        <c:auto val="1"/>
        <c:lblAlgn val="ctr"/>
        <c:lblOffset val="100"/>
        <c:noMultiLvlLbl val="0"/>
      </c:catAx>
      <c:valAx>
        <c:axId val="69827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28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725-09A5-48C7-8A93-F0FE90D9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028-91CC-41EB-A687-7160ACFA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082-B9AC-43B6-A720-CBBF4EF6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04F-1AA0-4D0F-A959-8FA41E1F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DAE-4806-4422-BE75-F63A5DCE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D58-302B-40D6-A840-AD750BCB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4E7-6174-4C1C-BC19-8D6E9B9E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75B-3531-41A5-8422-28B843A2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7D0-8138-4AF9-B297-72DFD9D7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523-AE2D-41C4-8B6A-A0082B0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6CE-1A6A-4933-9CF5-40E39F91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58B-1047-47D5-8E17-89B10CC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72EE7-231E-4BDE-A466-3ABF518CE3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