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37362"/>
        <c:axId val="71877564"/>
      </c:barChart>
      <c:catAx>
        <c:axId val="97337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77564"/>
        <c:crosses val="autoZero"/>
        <c:auto val="1"/>
        <c:lblAlgn val="ctr"/>
        <c:lblOffset val="100"/>
        <c:noMultiLvlLbl val="0"/>
      </c:catAx>
      <c:valAx>
        <c:axId val="71877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37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7BE-25DA-4AD8-975C-28C1EF00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2C1-F4A1-40F7-A802-64D566AE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65B-9397-4E36-AB14-38AF6680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FE4-1ED0-4700-BAF0-576AB4D5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914-388A-4311-9E30-15385E28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F1F-A9B5-4BD6-8196-398C5078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549-D096-40D3-9628-72CE7E09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AA6-4FBE-4532-A0CC-1B33539F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4D1C-6FE3-4969-A2C9-7B03A027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774-9ED5-45BA-A0D8-ECA82056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0AE-6751-40DF-A370-3138E9E1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052-C82E-424D-8C51-62870D30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94E99-55E9-4FF1-B8CE-99CF007EEB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