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521389"/>
        <c:axId val="3869773"/>
      </c:barChart>
      <c:catAx>
        <c:axId val="615213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9773"/>
        <c:crosses val="autoZero"/>
        <c:auto val="1"/>
        <c:lblAlgn val="ctr"/>
        <c:lblOffset val="100"/>
        <c:noMultiLvlLbl val="0"/>
      </c:catAx>
      <c:valAx>
        <c:axId val="38697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213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CDC1-4B24-48AC-B5DE-01F7328C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1A18-F78F-43B7-9B7B-FDB6D710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6814-A501-4578-ADBC-24342EBB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DEC1-0924-411A-90ED-0E55D49B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49F8-F878-4169-B246-BE2A5D62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A10F-4669-48E4-A04A-902D8002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5270-E4D1-49C3-84D4-F0BE9E29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3DCD-2C41-4BA0-8A04-902D0879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82A8-0069-4264-ABB9-121AE70C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AD76-97CC-4C6B-A0D6-C316162C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E6DA-5E6C-4911-A635-80B6536D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36F7-184A-4A33-949C-95B59A2C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6821F-574C-4ECB-B5EF-97CDF84D25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