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7113"/>
        <c:axId val="40123071"/>
      </c:barChart>
      <c:catAx>
        <c:axId val="6337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3071"/>
        <c:crosses val="autoZero"/>
        <c:auto val="1"/>
        <c:lblAlgn val="ctr"/>
        <c:lblOffset val="100"/>
        <c:noMultiLvlLbl val="0"/>
      </c:catAx>
      <c:valAx>
        <c:axId val="40123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D5B-3AFA-4E54-AAE3-FF649AB9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D70-4BE5-4164-BE28-64A6744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49D-7BDC-414F-B15D-24B562DA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A3-EBBE-4141-BC64-6875831E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1AB-7DEF-4EDD-98AA-47BFE926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514-FE0A-4C17-968D-95FF5C96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AB1-9E90-4451-AD7C-C1CD9DD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E0F-4257-4574-A655-54911DDB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FFB-BF8E-4B09-A60E-DEADBA50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E68-E816-4F9E-83B9-5F749D4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258-E4FC-49CD-B257-931A0A1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5CD-E923-4C4C-8A20-5408CF8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D4A40-9AC4-4313-99CE-63BD4234BD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