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91263"/>
        <c:axId val="79699466"/>
      </c:barChart>
      <c:catAx>
        <c:axId val="73591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99466"/>
        <c:crosses val="autoZero"/>
        <c:auto val="1"/>
        <c:lblAlgn val="ctr"/>
        <c:lblOffset val="100"/>
        <c:noMultiLvlLbl val="0"/>
      </c:catAx>
      <c:valAx>
        <c:axId val="79699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91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5C1-D1E6-4ACD-9E0C-91757A80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26D-9E21-4A30-8593-348AEA10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4D1-0CF8-4D46-B84E-DB5E31E9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096-BCC9-41D4-8B3E-088418B5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34D-D401-4698-8891-917052FB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A91-81CD-45B8-92F5-25B8E51F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598-31AD-4428-BEE3-B8E21DE6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43D-7A0C-4ED5-8930-01D36658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407-67C1-4725-A905-76A03917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B4C-AB7E-4AD0-A142-B11E9999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1A7-7817-41C3-B331-6C2F6574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977-7D9D-43FF-9812-E541CFA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5788C-076F-42BF-8930-4D2F4E2038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