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21943"/>
        <c:axId val="78461200"/>
      </c:barChart>
      <c:catAx>
        <c:axId val="96021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1200"/>
        <c:crosses val="autoZero"/>
        <c:auto val="1"/>
        <c:lblAlgn val="ctr"/>
        <c:lblOffset val="100"/>
        <c:noMultiLvlLbl val="0"/>
      </c:catAx>
      <c:valAx>
        <c:axId val="78461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21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024-1E2E-4441-B28E-F899CD61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F35-17A8-4759-BF41-09B00A2C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FFD-0666-4EBB-8629-59EB28E9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EA8-9099-41C1-AAF6-FDBEFB74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93E-2144-4B4F-BEBE-0418ECB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0C9-F297-4181-B106-273C43C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174-5C41-4046-8BD4-AA470D1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C8A-F5D3-44FB-B81B-15C5B8C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240-1644-421C-B794-9E87F9F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FD6-49AF-4755-8F90-ADFF5342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418-9BE1-4557-9539-A28F339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E3C-B8F1-4C63-834C-85CFB81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F393D-2827-4C35-841F-78A03026A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