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30880"/>
        <c:axId val="6352069"/>
      </c:barChart>
      <c:catAx>
        <c:axId val="92930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2069"/>
        <c:crosses val="autoZero"/>
        <c:auto val="1"/>
        <c:lblAlgn val="ctr"/>
        <c:lblOffset val="100"/>
        <c:noMultiLvlLbl val="0"/>
      </c:catAx>
      <c:valAx>
        <c:axId val="6352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30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ECA-D05F-4F7A-9A2F-5CF72AE1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B39-E4A3-4DAE-A43C-A176D5D1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72A-B3D5-44FE-A168-549E60C2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7C6-0D09-404A-8F89-51AB1D94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8FF-453F-4E01-9D2A-56652C58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26F-637D-45F0-A7E0-BECC3183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2FB-CDE3-4957-9582-F4F2D458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309-6AE7-48A7-AD40-FADB2F33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4A0-1411-41F1-AFE8-DE3F4458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682-3864-4A45-AC1C-C33B05EB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1A0-0628-48E6-905C-2605CD73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7DF-CCCB-4851-A515-C7AD7B01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DC49A-B934-44BF-95E2-611971418D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