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26045"/>
        <c:axId val="22507995"/>
      </c:barChart>
      <c:catAx>
        <c:axId val="64826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07995"/>
        <c:crosses val="autoZero"/>
        <c:auto val="1"/>
        <c:lblAlgn val="ctr"/>
        <c:lblOffset val="100"/>
        <c:noMultiLvlLbl val="0"/>
      </c:catAx>
      <c:valAx>
        <c:axId val="22507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26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DA2-F0A0-4AD8-8DC8-C8DFBF5B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05B-7A5F-4D26-9893-B1D3A9C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734-2D52-40CA-A16B-8C4A12F7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AE9-A912-4C85-ABF3-EAE3691D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A05-A386-46D6-8DAB-54222460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125-7C12-43B2-81C2-A850CB49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EB7-9419-463A-9922-66D45A25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725-1917-47BD-B3D1-71B9C0EE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10C-26B2-4F7A-B608-ED487DA7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151-56F4-4400-A978-29447C36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58A-D6E0-4FF0-A290-B76ADCF5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E5F-3C24-4CA7-A2A7-AC80E64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5A66B-2724-45A6-9CB7-AC40C862EE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