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841199"/>
        <c:axId val="22351805"/>
      </c:barChart>
      <c:catAx>
        <c:axId val="968411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51805"/>
        <c:crosses val="autoZero"/>
        <c:auto val="1"/>
        <c:lblAlgn val="ctr"/>
        <c:lblOffset val="100"/>
        <c:noMultiLvlLbl val="0"/>
      </c:catAx>
      <c:valAx>
        <c:axId val="223518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411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C728-519F-452D-9314-C33CF995C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D12E-0E9E-4C9B-82F4-E7569693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BEF0-2C91-488F-92F1-664B1686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23C3-3621-4609-BC61-7E9E7FF3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A406-2B0A-47B3-AEB1-6F52650F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DEA5-C37D-4DCC-BA69-F44B46C5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81A7-7EF0-4D48-8925-6EAB5F64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9EA1-C7E1-4947-BA59-C6199B29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9D21-06F7-46B6-8B2D-E79B52B4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6C5E-A068-49F4-9144-C4E83E01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6ED9-ABE8-4FEA-90AE-370CCD1E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C3C-C372-4D21-863A-BFB9B9D4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FFCA3-C464-4EB9-A930-D5EDFE4BC3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