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181676"/>
        <c:axId val="50149960"/>
      </c:barChart>
      <c:catAx>
        <c:axId val="711816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49960"/>
        <c:crosses val="autoZero"/>
        <c:auto val="1"/>
        <c:lblAlgn val="ctr"/>
        <c:lblOffset val="100"/>
        <c:noMultiLvlLbl val="0"/>
      </c:catAx>
      <c:valAx>
        <c:axId val="501499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1816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DD359-B5CD-422C-9659-19EF8EEBC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9141-8481-4968-8B4F-5A56794D0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882-12E1-40CD-9CC3-50252714D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53DC-7FC5-40AB-8715-49CF1759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473-424B-4DB3-A5C0-3BA36319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D680-A092-46C9-8579-AA8E66B5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E8B3-003A-4E4F-9542-D249EB33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10407-205D-40B9-843D-B78AA29A8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065C-ACF3-4458-A74C-0D80E105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2E96-0E61-46E5-BA24-DA756191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3F3-1F64-4CA0-8641-A81271F3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9618-E5D4-4D0C-9404-DF5D5FD4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68D35-0DAE-40AF-A4AA-6D551E25453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