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87946"/>
        <c:axId val="76568969"/>
      </c:barChart>
      <c:catAx>
        <c:axId val="27687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8969"/>
        <c:crosses val="autoZero"/>
        <c:auto val="1"/>
        <c:lblAlgn val="ctr"/>
        <c:lblOffset val="100"/>
        <c:noMultiLvlLbl val="0"/>
      </c:catAx>
      <c:valAx>
        <c:axId val="76568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7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60C-6302-4738-BED6-E6DB5D61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670-9226-4642-9EF2-AC2B522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2C5-9513-4BD0-829D-6750A035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F05-0226-4BC1-924B-ED527DF5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9AA-9E9B-46AC-8321-C8527C98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1ED-F28B-4A66-B985-0594FC4E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461-762E-498F-BD11-CAA20999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F12-314F-4783-9B9E-0CC019FF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558-3F42-4A41-81DA-E23F5DAE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562-F633-498D-B1D2-945CABD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6BD-6683-4927-AEB0-6F8E2B2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134-9BD2-4A92-BE94-203B5612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E9992-0359-4B6E-8296-435F9964A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