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76427"/>
        <c:axId val="18488756"/>
      </c:barChart>
      <c:catAx>
        <c:axId val="67876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88756"/>
        <c:crosses val="autoZero"/>
        <c:auto val="1"/>
        <c:lblAlgn val="ctr"/>
        <c:lblOffset val="100"/>
        <c:noMultiLvlLbl val="0"/>
      </c:catAx>
      <c:valAx>
        <c:axId val="18488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76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727-D776-476C-8E2F-4A20269B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0F5-9736-4C27-B285-8D7A0C96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EC49-58A2-4DB1-8B52-AD7C2058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9FED-6F45-4462-9A06-8255832F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536-945D-461B-86B5-5C8F048D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8CF7-A8D5-43FC-A9C5-8E51DD08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CA11-E9BE-4EC7-9019-A3D556FF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C51E-FEE1-4EF2-BF61-20D0BBD2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0F3-F85B-4813-9505-0E1ADDAE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354-AD92-4CF9-B936-D7AACD07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ABF-08A2-4679-A5D6-465AD799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C42D-BB23-445F-A218-E3E134F3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B2B32-8132-412A-A463-6236340621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