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4921236"/>
        <c:axId val="16293443"/>
      </c:barChart>
      <c:catAx>
        <c:axId val="449212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293443"/>
        <c:crosses val="autoZero"/>
        <c:auto val="1"/>
        <c:lblAlgn val="ctr"/>
        <c:lblOffset val="100"/>
        <c:noMultiLvlLbl val="0"/>
      </c:catAx>
      <c:valAx>
        <c:axId val="1629344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9212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36FB-8EE8-4685-A9D2-57D5E6ED50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9C979-3097-4F5D-9787-4488F5C0E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0DCC-E9E1-438B-8087-34ED691ED9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94B29-FBFF-44BC-BB75-1329D9E5B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0714F-A4CD-4365-869D-B7EB82741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A1114-D085-4EFE-A0AE-B0436ED27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40608-9C05-4DAE-A2DC-C120758E3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4360-D868-4381-905F-141FB670A4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ADBB-8DEE-470B-A6CB-9F758CBB1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3BB0-7C41-44AA-B38D-81317C663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4198-B8C2-4B04-AA30-3F6C9263D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B4919-710E-4192-9EAD-2B76DE8FE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432A89-60B6-4B0B-84AD-BE7F309EFB4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