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31902"/>
        <c:axId val="67382607"/>
      </c:barChart>
      <c:catAx>
        <c:axId val="44431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82607"/>
        <c:crosses val="autoZero"/>
        <c:auto val="1"/>
        <c:lblAlgn val="ctr"/>
        <c:lblOffset val="100"/>
        <c:noMultiLvlLbl val="0"/>
      </c:catAx>
      <c:valAx>
        <c:axId val="67382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31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CF7-5E11-4987-AA8F-058EEAD8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3E4-EDDB-478F-A239-4B84A535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3C5-FF1D-4942-B696-4154F999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CC3-8CD4-4EDA-A871-7A30B857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E63-4AEC-4E18-82A1-6F8A2D25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BC8-4AD3-4EFE-ABAC-0528E0C3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1A9-25D4-4751-B54D-9393E748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EE9-B763-43D2-8490-FD701BD5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38D-7D4A-487D-9C8D-F848E8ED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741-4E8C-4C87-9D3E-BFD5F0B3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552-E1FC-4DF2-9D01-C9F14AF1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148-729E-4DCA-AFDD-C55B566E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BB5EF-4D39-44DD-BAED-B151B4CC77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