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16763"/>
        <c:axId val="14752074"/>
      </c:barChart>
      <c:catAx>
        <c:axId val="31716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52074"/>
        <c:crosses val="autoZero"/>
        <c:auto val="1"/>
        <c:lblAlgn val="ctr"/>
        <c:lblOffset val="100"/>
        <c:noMultiLvlLbl val="0"/>
      </c:catAx>
      <c:valAx>
        <c:axId val="14752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6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025-8503-411C-88D6-031952A9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13C-1AF1-47FD-96DD-AB6C8C2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1E9-7BBF-4425-9631-015EB274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F25-8D38-49CF-9492-2B079FD5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3D9-69A8-49CF-AD1D-4264C37D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E59-025F-4576-9038-F2C9F9D8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806-78A0-4F6B-BBDD-256965D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4CB-F84D-4C3D-A553-7C7C3AC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EBD-CF3B-402A-89F4-EB2BE3B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C08-18DB-47C6-9CB5-8B38A72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FA6-3CD0-4C47-B6F2-F6D8F4D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D3F-77FC-438A-BD0B-2E89A11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2D161-C940-4176-AB6D-B3D0728B1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