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50544"/>
        <c:axId val="6859137"/>
      </c:barChart>
      <c:catAx>
        <c:axId val="66350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137"/>
        <c:crosses val="autoZero"/>
        <c:auto val="1"/>
        <c:lblAlgn val="ctr"/>
        <c:lblOffset val="100"/>
        <c:noMultiLvlLbl val="0"/>
      </c:catAx>
      <c:valAx>
        <c:axId val="6859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50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DDC-77F9-49AE-88F2-82D59B0B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B44-D309-47D6-9683-4D4E131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766-8B83-4CAF-BA6E-EDAE66CF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D75-96EA-4172-A2ED-F9D54C4F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47E-D601-48AE-A6CA-2B2DFD75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B8A-57D8-4BAC-96A6-90F8568C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ECC-7343-407D-8495-5215B54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83D-92FA-4F7C-9BA9-8A07553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558-BAEF-4E4C-9BEC-E9B16ED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231-2293-49AA-BDAA-90D9BD4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A4D-30EF-40BC-B002-2429376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915-F4E2-492C-92F0-AAF4C4D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204C-BDB3-4BFF-91D0-5E5999606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