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56184"/>
        <c:axId val="87325746"/>
      </c:barChart>
      <c:catAx>
        <c:axId val="76956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25746"/>
        <c:crosses val="autoZero"/>
        <c:auto val="1"/>
        <c:lblAlgn val="ctr"/>
        <c:lblOffset val="100"/>
        <c:noMultiLvlLbl val="0"/>
      </c:catAx>
      <c:valAx>
        <c:axId val="87325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56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07E-7F7E-46DC-8720-3F048B2F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982-D5BA-48A7-AC26-D93A5AC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C55-445F-4E05-8E2D-73345BF2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397-FA90-4C28-BEC5-1F05B44E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C4A-B95E-45E5-9021-CC2C83D5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9F3-FE09-4494-9BEC-3420E6B1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B31-E06E-4939-9B9E-1CFECE11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E1E-2BBC-4215-A87A-C9AE7FD4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FA1-FCBD-44E7-A8B1-CEA2D81E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B73-B9E5-4626-8DE7-FDB89443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9E7-10B1-4545-A1C7-01FD209F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DBC-D8CF-4701-9AF5-F85D4125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5D0BA-2E89-445C-B49C-884C433225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