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4032"/>
        <c:axId val="58825323"/>
      </c:barChart>
      <c:catAx>
        <c:axId val="19704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5323"/>
        <c:crosses val="autoZero"/>
        <c:auto val="1"/>
        <c:lblAlgn val="ctr"/>
        <c:lblOffset val="100"/>
        <c:noMultiLvlLbl val="0"/>
      </c:catAx>
      <c:valAx>
        <c:axId val="58825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4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730-4308-4BF1-9B8B-3BD2B774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2F2-D2F8-45FE-94D5-28F4A89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0EC-6722-4FF5-B497-8717248F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22A-8462-4544-8209-17F068AC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067-9CFC-4B7F-9007-673B6FA5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4E5-BF2A-418B-B563-08051555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C3B-5BC7-4A4B-8F02-1380BA0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822-A9BD-4397-8F44-988B8B67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C56-C346-4937-BE7A-909ACB1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A57-125D-41B8-AC18-51008DF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EDB-BBBA-46B6-8933-688042F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9A1-5F9D-4D6D-B641-CEA2477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CD3D7-CFCE-41A3-AEE0-E114F9A909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