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34628"/>
        <c:axId val="32265088"/>
      </c:barChart>
      <c:catAx>
        <c:axId val="50834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65088"/>
        <c:crosses val="autoZero"/>
        <c:auto val="1"/>
        <c:lblAlgn val="ctr"/>
        <c:lblOffset val="100"/>
        <c:noMultiLvlLbl val="0"/>
      </c:catAx>
      <c:valAx>
        <c:axId val="32265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34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73F-04C8-4C4B-B728-63CB727D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C92-4683-4D54-9BEE-D5378517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64A-CE7A-4D1C-A0C5-21BCEF49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36D-6333-4F32-B559-4FF353F9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F6F-0916-429E-9387-57A5585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028-BBA3-4315-84BF-5313B2BD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68A-A3FB-420C-BBED-13F322E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292-9229-4C04-8E42-BA28AA4A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A62-7A59-4437-AB09-67BE606F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BDC-A4A2-47F8-9A01-5E8E8DA2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31A-85CA-4D5B-9A83-60158733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577-E50D-4B29-A3B9-1274046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5AB68-FF93-456C-9E07-56E6C8A069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