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194732"/>
        <c:axId val="43379924"/>
      </c:barChart>
      <c:catAx>
        <c:axId val="541947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79924"/>
        <c:crosses val="autoZero"/>
        <c:auto val="1"/>
        <c:lblAlgn val="ctr"/>
        <c:lblOffset val="100"/>
        <c:noMultiLvlLbl val="0"/>
      </c:catAx>
      <c:valAx>
        <c:axId val="433799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947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11B4-DA0C-440F-8365-D332E795F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E163-FB3E-4F27-9907-246BF8F8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5F7E-A096-482F-AB80-49E6C1262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5849-2879-4E76-B3BC-3128D7F08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69A8-8A4E-4B35-A139-252F5A50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AF7E-08AD-438E-9956-9A299C11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4843-426A-4B66-A98B-786572AF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8125-A8D4-403E-A846-85D61DFF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B226-3B51-47F4-B985-B94127C7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A6C9-B6BC-4503-B562-703E7C4B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90FA-2D87-45DF-8D36-F50DBE3E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5672-FCA9-4FEA-B454-53AE1651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2D5A2-31E0-49B5-B1F8-FA9368B56E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