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4459"/>
        <c:axId val="1094792"/>
      </c:barChart>
      <c:catAx>
        <c:axId val="5594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4792"/>
        <c:crosses val="autoZero"/>
        <c:auto val="1"/>
        <c:lblAlgn val="ctr"/>
        <c:lblOffset val="100"/>
        <c:noMultiLvlLbl val="0"/>
      </c:catAx>
      <c:valAx>
        <c:axId val="1094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4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77F-C9ED-4120-9973-1D88EA9F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38E-8962-417A-BE50-16477228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CF2-868D-4D9B-AB12-5F25F062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DF2-53BB-4165-B0D6-23A05120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DDE-BDBC-46E5-A594-FD94B8CE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250-F963-44BD-B967-3C6C6318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235-016F-4D8E-94E5-25A5BD88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1FE-B85D-430A-8B96-52C2C492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7AB-12D2-4837-87B3-91B78D71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01C-1A1E-492F-B386-4BE776BA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120-F7A5-4008-A234-3887A0A5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1A9-6C50-473C-B4A0-4F6C6307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B875C-8A5F-42EF-94AD-C8CB2AE893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