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751870"/>
        <c:axId val="96274834"/>
      </c:barChart>
      <c:catAx>
        <c:axId val="307518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74834"/>
        <c:crosses val="autoZero"/>
        <c:auto val="1"/>
        <c:lblAlgn val="ctr"/>
        <c:lblOffset val="100"/>
        <c:noMultiLvlLbl val="0"/>
      </c:catAx>
      <c:valAx>
        <c:axId val="962748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7518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D371-3FA7-4A3A-88DF-B5BCDE1DA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CBD8-E9DA-46C2-BFA6-B2F80D8A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3867-92A2-47CB-82CB-F00E71425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20DA-9C3C-4B03-8B24-7B770E4DB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89B4-1878-479C-AB1A-C82CE021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8129-22F3-4E8B-9037-2DDA3662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BC55-832D-477A-AD97-3883D41B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B237-0239-4395-9EEC-98CB64E2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B867-5789-47B3-971A-BEBF0324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3322-DA4E-4A20-8525-46D5D206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2B5D-17C0-43A0-990A-598BAB9A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6437-1C44-4EDA-8C32-7A23FD5A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805F96-5396-45A5-B2C8-ED61E6B9E3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