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88710"/>
        <c:axId val="1588959"/>
      </c:barChart>
      <c:catAx>
        <c:axId val="51188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959"/>
        <c:crosses val="autoZero"/>
        <c:auto val="1"/>
        <c:lblAlgn val="ctr"/>
        <c:lblOffset val="100"/>
        <c:noMultiLvlLbl val="0"/>
      </c:catAx>
      <c:valAx>
        <c:axId val="1588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88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E02-7BD8-459E-9E84-ACDE38FD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D16-6971-44B2-8288-7BA5E317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8EC-C3C5-4498-AA03-44DD0315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34F-1B4F-4AE9-B0FE-89C3AE9F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E12-3BFB-44CA-A244-5DFC8953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C56-324C-4CF7-B6BA-23F22C7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324-B011-4813-A872-D0A88239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8A5-2AF8-40E1-B2BE-CB199D30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B0E-7138-4F2B-A5D8-BE500870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562-06EB-43F0-8E1C-C3DDB56E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C3A-F006-46CE-A06D-79363D9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127-3596-4FCA-856A-03DB3BA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CB4F2-A70D-4E56-8543-C238F49A3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