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27669"/>
        <c:axId val="83754199"/>
      </c:barChart>
      <c:catAx>
        <c:axId val="52127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54199"/>
        <c:crosses val="autoZero"/>
        <c:auto val="1"/>
        <c:lblAlgn val="ctr"/>
        <c:lblOffset val="100"/>
        <c:noMultiLvlLbl val="0"/>
      </c:catAx>
      <c:valAx>
        <c:axId val="83754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27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E68-BCCC-4C8C-8B3F-A005DBFA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520-2F64-4AB3-894D-438E3C51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454-D5AE-4103-BEA1-61657BB9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D85-B603-4B25-BCDA-3928716A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D5D-23A9-40DB-80C1-3E4CC817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7DF-EBFB-4EF2-86A4-21FDE2B0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898-3A34-4F34-8FC9-B246A39A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5E0-D37C-4221-BE6C-DCA70480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BF0-98EF-46BB-ABAC-972C9C5A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7D5-0E2A-4790-A47C-D698121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CBF-635F-4803-BB72-805569BD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FC5-A015-4F83-A953-D4DBC739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54948-02C0-428B-8270-5DF660E66E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